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6CE-E39F-4CD1-BC58-DB107AC7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CC7-8C8F-4BE1-9A8C-6228B439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913-B1B2-4222-8F19-678D3EA8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6F9-5E9E-4417-BAE3-8298DF4B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80E-E8A8-451B-BA54-31F32982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022-5900-4E59-824E-972E75F5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F49-A174-4539-9503-07BAAC37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BDD-CCD9-461B-8C3B-153AC52D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86E-303C-404C-81D0-4D0E75BD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8E4-EEAB-4A32-BC21-D6E555CA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4BB-4128-41C8-A719-72378CF6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E72-31F2-4DA8-A424-3273738C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1744-E95C-442F-B4AC-A3ADC0D8F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698400" y="765000"/>
            <a:ext cx="76899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Arial"/>
              </a:rPr>
              <a:t>«И почему было Москве царством быти? И хто то знал, что Москве государством слыти?»</a:t>
            </a:r>
            <a:br>
              <a:rPr sz="4800"/>
            </a:br>
            <a:br>
              <a:rPr sz="4800"/>
            </a:b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«Сказание об убиении Даниила Суздальского и о начале Москвы». XVII в.</a:t>
            </a: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4"/>
          <p:cNvSpPr/>
          <p:nvPr/>
        </p:nvSpPr>
        <p:spPr>
          <a:xfrm>
            <a:off x="2519280" y="809640"/>
            <a:ext cx="3889440" cy="3988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волод Большое Гнез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240000" y="1463760"/>
            <a:ext cx="2448000" cy="3988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росл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900000" y="2276640"/>
            <a:ext cx="2737080" cy="3988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андр 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5508720" y="2276640"/>
            <a:ext cx="2448000" cy="3988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Яросл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6877080" y="14590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250920" y="148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6"/>
          <p:cNvSpPr/>
          <p:nvPr/>
        </p:nvSpPr>
        <p:spPr>
          <a:xfrm>
            <a:off x="4500720" y="1268280"/>
            <a:ext cx="0" cy="216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5"/>
          <p:cNvGrpSpPr/>
          <p:nvPr/>
        </p:nvGrpSpPr>
        <p:grpSpPr>
          <a:xfrm>
            <a:off x="2268360" y="1916280"/>
            <a:ext cx="4464360" cy="360360"/>
            <a:chOff x="2268360" y="1916280"/>
            <a:chExt cx="4464360" cy="360360"/>
          </a:xfrm>
        </p:grpSpPr>
        <p:sp>
          <p:nvSpPr>
            <p:cNvPr id="85" name="Line 27"/>
            <p:cNvSpPr/>
            <p:nvPr/>
          </p:nvSpPr>
          <p:spPr>
            <a:xfrm>
              <a:off x="2268360" y="2060640"/>
              <a:ext cx="4464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8"/>
            <p:cNvSpPr/>
            <p:nvPr/>
          </p:nvSpPr>
          <p:spPr>
            <a:xfrm>
              <a:off x="2268360" y="2060640"/>
              <a:ext cx="0" cy="21600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9"/>
            <p:cNvSpPr/>
            <p:nvPr/>
          </p:nvSpPr>
          <p:spPr>
            <a:xfrm>
              <a:off x="6732720" y="2060640"/>
              <a:ext cx="0" cy="21600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0"/>
            <p:cNvSpPr/>
            <p:nvPr/>
          </p:nvSpPr>
          <p:spPr>
            <a:xfrm>
              <a:off x="4500720" y="1916280"/>
              <a:ext cx="0" cy="144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2"/>
          <p:cNvSpPr/>
          <p:nvPr/>
        </p:nvSpPr>
        <p:spPr>
          <a:xfrm>
            <a:off x="1476360" y="131760"/>
            <a:ext cx="644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Борьба Москвы и Тв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1620720" y="2924280"/>
            <a:ext cx="1295640" cy="3988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ани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6"/>
          <p:cNvSpPr/>
          <p:nvPr/>
        </p:nvSpPr>
        <p:spPr>
          <a:xfrm>
            <a:off x="2268360" y="2708280"/>
            <a:ext cx="0" cy="216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3"/>
          <p:cNvGrpSpPr/>
          <p:nvPr/>
        </p:nvGrpSpPr>
        <p:grpSpPr>
          <a:xfrm>
            <a:off x="755640" y="2708280"/>
            <a:ext cx="8137440" cy="1773720"/>
            <a:chOff x="755640" y="2708280"/>
            <a:chExt cx="8137440" cy="1773720"/>
          </a:xfrm>
        </p:grpSpPr>
        <p:grpSp>
          <p:nvGrpSpPr>
            <p:cNvPr id="93" name="Group 52"/>
            <p:cNvGrpSpPr/>
            <p:nvPr/>
          </p:nvGrpSpPr>
          <p:grpSpPr>
            <a:xfrm>
              <a:off x="4645080" y="2708280"/>
              <a:ext cx="4248000" cy="1773720"/>
              <a:chOff x="4645080" y="2708280"/>
              <a:chExt cx="4248000" cy="1773720"/>
            </a:xfrm>
          </p:grpSpPr>
          <p:sp>
            <p:nvSpPr>
              <p:cNvPr id="94" name="Text Box 19"/>
              <p:cNvSpPr/>
              <p:nvPr/>
            </p:nvSpPr>
            <p:spPr>
              <a:xfrm>
                <a:off x="6013440" y="2924280"/>
                <a:ext cx="1295280" cy="398880"/>
              </a:xfrm>
              <a:prstGeom prst="rect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Михаил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21"/>
              <p:cNvSpPr/>
              <p:nvPr/>
            </p:nvSpPr>
            <p:spPr>
              <a:xfrm>
                <a:off x="7094520" y="3794040"/>
                <a:ext cx="1798560" cy="398880"/>
              </a:xfrm>
              <a:prstGeom prst="rect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Александ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23"/>
              <p:cNvSpPr/>
              <p:nvPr/>
            </p:nvSpPr>
            <p:spPr>
              <a:xfrm>
                <a:off x="4645080" y="3778200"/>
                <a:ext cx="2087640" cy="703800"/>
              </a:xfrm>
              <a:prstGeom prst="rect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митрий Грозные Оч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38"/>
              <p:cNvSpPr/>
              <p:nvPr/>
            </p:nvSpPr>
            <p:spPr>
              <a:xfrm>
                <a:off x="6732720" y="2708280"/>
                <a:ext cx="0" cy="21600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Group 45"/>
              <p:cNvGrpSpPr/>
              <p:nvPr/>
            </p:nvGrpSpPr>
            <p:grpSpPr>
              <a:xfrm>
                <a:off x="5796000" y="3355920"/>
                <a:ext cx="1871640" cy="431640"/>
                <a:chOff x="5796000" y="3355920"/>
                <a:chExt cx="1871640" cy="431640"/>
              </a:xfrm>
            </p:grpSpPr>
            <p:sp>
              <p:nvSpPr>
                <p:cNvPr id="99" name="Line 40"/>
                <p:cNvSpPr/>
                <p:nvPr/>
              </p:nvSpPr>
              <p:spPr>
                <a:xfrm>
                  <a:off x="5796000" y="3571920"/>
                  <a:ext cx="187164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41"/>
                <p:cNvSpPr/>
                <p:nvPr/>
              </p:nvSpPr>
              <p:spPr>
                <a:xfrm>
                  <a:off x="5796000" y="3571920"/>
                  <a:ext cx="0" cy="2156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42"/>
                <p:cNvSpPr/>
                <p:nvPr/>
              </p:nvSpPr>
              <p:spPr>
                <a:xfrm>
                  <a:off x="6732720" y="3355920"/>
                  <a:ext cx="0" cy="21600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44"/>
                <p:cNvSpPr/>
                <p:nvPr/>
              </p:nvSpPr>
              <p:spPr>
                <a:xfrm>
                  <a:off x="7667640" y="3571920"/>
                  <a:ext cx="0" cy="2156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" name="Group 51"/>
            <p:cNvGrpSpPr/>
            <p:nvPr/>
          </p:nvGrpSpPr>
          <p:grpSpPr>
            <a:xfrm>
              <a:off x="755640" y="3357720"/>
              <a:ext cx="3600360" cy="836640"/>
              <a:chOff x="755640" y="3357720"/>
              <a:chExt cx="3600360" cy="836640"/>
            </a:xfrm>
          </p:grpSpPr>
          <p:sp>
            <p:nvSpPr>
              <p:cNvPr id="104" name="Text Box 20"/>
              <p:cNvSpPr/>
              <p:nvPr/>
            </p:nvSpPr>
            <p:spPr>
              <a:xfrm>
                <a:off x="755640" y="3795480"/>
                <a:ext cx="1295280" cy="398880"/>
              </a:xfrm>
              <a:prstGeom prst="rect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Юри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22"/>
              <p:cNvSpPr/>
              <p:nvPr/>
            </p:nvSpPr>
            <p:spPr>
              <a:xfrm>
                <a:off x="2268360" y="3795480"/>
                <a:ext cx="2087640" cy="398880"/>
              </a:xfrm>
              <a:prstGeom prst="rect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Иван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 Калит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Group 46"/>
              <p:cNvGrpSpPr/>
              <p:nvPr/>
            </p:nvGrpSpPr>
            <p:grpSpPr>
              <a:xfrm>
                <a:off x="1332000" y="3357720"/>
                <a:ext cx="1871640" cy="430920"/>
                <a:chOff x="1332000" y="3357720"/>
                <a:chExt cx="1871640" cy="430920"/>
              </a:xfrm>
            </p:grpSpPr>
            <p:sp>
              <p:nvSpPr>
                <p:cNvPr id="107" name="Line 47"/>
                <p:cNvSpPr/>
                <p:nvPr/>
              </p:nvSpPr>
              <p:spPr>
                <a:xfrm>
                  <a:off x="1332000" y="3573360"/>
                  <a:ext cx="187164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48"/>
                <p:cNvSpPr/>
                <p:nvPr/>
              </p:nvSpPr>
              <p:spPr>
                <a:xfrm>
                  <a:off x="1332000" y="3573360"/>
                  <a:ext cx="0" cy="21528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49"/>
                <p:cNvSpPr/>
                <p:nvPr/>
              </p:nvSpPr>
              <p:spPr>
                <a:xfrm>
                  <a:off x="2268720" y="3357720"/>
                  <a:ext cx="0" cy="2156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50"/>
                <p:cNvSpPr/>
                <p:nvPr/>
              </p:nvSpPr>
              <p:spPr>
                <a:xfrm>
                  <a:off x="3203640" y="3573360"/>
                  <a:ext cx="0" cy="21528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, на ваш взгляд, Москва, а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ерь стала центром собирания Рус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ел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476360" y="131760"/>
            <a:ext cx="644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Борьба Москвы и Тв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476360" y="131760"/>
            <a:ext cx="734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Правление Ивана Кал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474920" y="513720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ен Горды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340-13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227640" y="513720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расны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353-13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 flipH="1">
            <a:off x="2626920" y="4280040"/>
            <a:ext cx="647640" cy="86364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H01_03_05_04_05p"/>
          <p:cNvPicPr/>
          <p:nvPr/>
        </p:nvPicPr>
        <p:blipFill>
          <a:blip r:embed="rId2"/>
          <a:stretch/>
        </p:blipFill>
        <p:spPr>
          <a:xfrm>
            <a:off x="3346560" y="401760"/>
            <a:ext cx="2798640" cy="3768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3059280" y="3851280"/>
            <a:ext cx="3744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н Данилович Кали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325-13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588000" y="4280040"/>
            <a:ext cx="484200" cy="79200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403280" y="476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жите, кто был основателем династии московских князей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476360" y="17478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Александр Н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76360" y="3068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Юрий Долгору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474920" y="239544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сын Александра Невского Дани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476360" y="36925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Ярослав Ярославич, брат Александра Не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403280" y="476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перничество  Москвы и Твери проявило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476360" y="17478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В феодальной усоб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476360" y="254016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В борьбе за торговые интере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474920" y="33274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В борьбе за право стать центром объ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х зе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1403280" y="476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 причины победы Москвы над Тверь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547640" y="13413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Золотая орда поддерживала политик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московских кня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547640" y="22464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Московские князья проводили умную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дальновидную полит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547640" y="3213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Выгодность географического 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580040" y="383076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Московское княжество поддерживалось другим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русскими княже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54280" y="1383840"/>
            <a:ext cx="63468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 ты видом сильно против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м – под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не в этом су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чески прогрессив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азался твой жизненный п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332000" y="131760"/>
            <a:ext cx="71276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О каком князе пишет современный поэт </a:t>
            </a:r>
            <a:br>
              <a:rPr sz="2400"/>
            </a:b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Н. Коржав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1547640" y="4884840"/>
            <a:ext cx="72010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Согласуется ли эта точка зрения с фактами истории? Согласны ли вы с такой оценкой деятельности княз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3,84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4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3,84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3,84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3,84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116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3,84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440000" y="126828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1132 г. новгородский летописец с горечью записал: «И раздрася вся земля Русская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з сто лет уже галицкий летописец с тоской напишет: «Начнем же рассказывать о бесчисленных ратях и великих трудах, и частых войнах, и многих крамолах, и частых восстаниях, и многих мятежах»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7280" y="43920"/>
            <a:ext cx="7139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Задание на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35280" y="2031840"/>
            <a:ext cx="68515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вы были причины объединения русских земель вокруг Москв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8040" y="1844640"/>
            <a:ext cx="76899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0000"/>
                </a:solidFill>
                <a:latin typeface="Arial"/>
              </a:rPr>
              <a:t>Возвышение Москв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1476360" y="131760"/>
            <a:ext cx="644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План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1871640" y="1916280"/>
            <a:ext cx="72723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едпосылки объ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озможные центры объ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Борьба Москвы и Т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авление Ивана Кал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76360" y="131760"/>
            <a:ext cx="6443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Предпосылки объ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9"/>
          <p:cNvGrpSpPr/>
          <p:nvPr/>
        </p:nvGrpSpPr>
        <p:grpSpPr>
          <a:xfrm>
            <a:off x="468360" y="1052640"/>
            <a:ext cx="8064000" cy="5035320"/>
            <a:chOff x="468360" y="1052640"/>
            <a:chExt cx="8064000" cy="5035320"/>
          </a:xfrm>
        </p:grpSpPr>
        <p:sp>
          <p:nvSpPr>
            <p:cNvPr id="50" name="Text Box 3"/>
            <p:cNvSpPr/>
            <p:nvPr/>
          </p:nvSpPr>
          <p:spPr>
            <a:xfrm>
              <a:off x="468360" y="1123920"/>
              <a:ext cx="2952360" cy="785520"/>
            </a:xfrm>
            <a:prstGeom prst="rect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468360" y="2576520"/>
              <a:ext cx="3024000" cy="1202760"/>
            </a:xfrm>
            <a:prstGeom prst="rect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7"/>
            <p:cNvSpPr/>
            <p:nvPr/>
          </p:nvSpPr>
          <p:spPr>
            <a:xfrm>
              <a:off x="3636720" y="1052640"/>
              <a:ext cx="2015640" cy="642600"/>
            </a:xfrm>
            <a:prstGeom prst="rect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знание единства Рус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8"/>
            <p:cNvSpPr/>
            <p:nvPr/>
          </p:nvSpPr>
          <p:spPr>
            <a:xfrm>
              <a:off x="539640" y="4522680"/>
              <a:ext cx="2879280" cy="916920"/>
            </a:xfrm>
            <a:prstGeom prst="rect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интересованность бояр в расширении территории государ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9"/>
            <p:cNvSpPr/>
            <p:nvPr/>
          </p:nvSpPr>
          <p:spPr>
            <a:xfrm>
              <a:off x="6013080" y="3068640"/>
              <a:ext cx="2374560" cy="916920"/>
            </a:xfrm>
            <a:prstGeom prst="rect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требность в государственном единств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1618920" y="5719680"/>
              <a:ext cx="6121080" cy="368280"/>
            </a:xfrm>
            <a:prstGeom prst="rect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бъединение русских земель в единое государ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1979280" y="1915920"/>
              <a:ext cx="0" cy="64764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2"/>
            <p:cNvSpPr/>
            <p:nvPr/>
          </p:nvSpPr>
          <p:spPr>
            <a:xfrm>
              <a:off x="1979280" y="3787560"/>
              <a:ext cx="0" cy="73332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"/>
            <p:cNvSpPr/>
            <p:nvPr/>
          </p:nvSpPr>
          <p:spPr>
            <a:xfrm>
              <a:off x="7237080" y="2347920"/>
              <a:ext cx="0" cy="72036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4"/>
            <p:cNvSpPr/>
            <p:nvPr/>
          </p:nvSpPr>
          <p:spPr>
            <a:xfrm>
              <a:off x="4644720" y="1712880"/>
              <a:ext cx="0" cy="40320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>
              <a:off x="5868720" y="1123920"/>
              <a:ext cx="2663640" cy="1223640"/>
            </a:xfrm>
            <a:prstGeom prst="rect">
              <a:avLst/>
            </a:prstGeom>
            <a:noFill/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22"/>
          <p:cNvSpPr/>
          <p:nvPr/>
        </p:nvSpPr>
        <p:spPr>
          <a:xfrm>
            <a:off x="582480" y="2571840"/>
            <a:ext cx="277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мление бояр приобрести вотчины     за пределами своего княж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828720" y="1071720"/>
            <a:ext cx="23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витие феодального землевла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5979960" y="14112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обходимость избавления от и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1" descr="Пиши"/>
          <p:cNvPicPr/>
          <p:nvPr/>
        </p:nvPicPr>
        <p:blipFill>
          <a:blip r:embed="rId1"/>
          <a:stretch/>
        </p:blipFill>
        <p:spPr>
          <a:xfrm>
            <a:off x="47520" y="63360"/>
            <a:ext cx="14288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reeform 9"/>
          <p:cNvSpPr/>
          <p:nvPr/>
        </p:nvSpPr>
        <p:spPr>
          <a:xfrm>
            <a:off x="155520" y="4508640"/>
            <a:ext cx="1919520" cy="2328840"/>
          </a:xfrm>
          <a:custGeom>
            <a:avLst/>
            <a:gdLst>
              <a:gd name="textAreaLeft" fmla="*/ 0 w 1919520"/>
              <a:gd name="textAreaRight" fmla="*/ 1919880 w 1919520"/>
              <a:gd name="textAreaTop" fmla="*/ 0 h 2328840"/>
              <a:gd name="textAreaBottom" fmla="*/ 2328840 h 2328840"/>
            </a:gdLst>
            <a:ahLst/>
            <a:rect l="textAreaLeft" t="textAreaTop" r="textAreaRight" b="textAreaBottom"/>
            <a:pathLst>
              <a:path w="1209" h="1467">
                <a:moveTo>
                  <a:pt x="378" y="0"/>
                </a:moveTo>
                <a:cubicBezTo>
                  <a:pt x="408" y="0"/>
                  <a:pt x="476" y="31"/>
                  <a:pt x="514" y="46"/>
                </a:cubicBezTo>
                <a:cubicBezTo>
                  <a:pt x="552" y="61"/>
                  <a:pt x="567" y="61"/>
                  <a:pt x="605" y="91"/>
                </a:cubicBezTo>
                <a:cubicBezTo>
                  <a:pt x="643" y="121"/>
                  <a:pt x="703" y="182"/>
                  <a:pt x="741" y="227"/>
                </a:cubicBezTo>
                <a:cubicBezTo>
                  <a:pt x="779" y="272"/>
                  <a:pt x="809" y="318"/>
                  <a:pt x="832" y="363"/>
                </a:cubicBezTo>
                <a:cubicBezTo>
                  <a:pt x="855" y="408"/>
                  <a:pt x="862" y="454"/>
                  <a:pt x="877" y="499"/>
                </a:cubicBezTo>
                <a:cubicBezTo>
                  <a:pt x="892" y="544"/>
                  <a:pt x="899" y="597"/>
                  <a:pt x="922" y="635"/>
                </a:cubicBezTo>
                <a:cubicBezTo>
                  <a:pt x="945" y="673"/>
                  <a:pt x="990" y="703"/>
                  <a:pt x="1013" y="726"/>
                </a:cubicBezTo>
                <a:cubicBezTo>
                  <a:pt x="1036" y="749"/>
                  <a:pt x="1051" y="742"/>
                  <a:pt x="1058" y="772"/>
                </a:cubicBezTo>
                <a:cubicBezTo>
                  <a:pt x="1065" y="802"/>
                  <a:pt x="1065" y="863"/>
                  <a:pt x="1058" y="908"/>
                </a:cubicBezTo>
                <a:cubicBezTo>
                  <a:pt x="1051" y="953"/>
                  <a:pt x="1028" y="1014"/>
                  <a:pt x="1013" y="1044"/>
                </a:cubicBezTo>
                <a:cubicBezTo>
                  <a:pt x="998" y="1074"/>
                  <a:pt x="953" y="1059"/>
                  <a:pt x="968" y="1089"/>
                </a:cubicBezTo>
                <a:cubicBezTo>
                  <a:pt x="983" y="1119"/>
                  <a:pt x="1066" y="1195"/>
                  <a:pt x="1104" y="1225"/>
                </a:cubicBezTo>
                <a:cubicBezTo>
                  <a:pt x="1142" y="1255"/>
                  <a:pt x="1202" y="1247"/>
                  <a:pt x="1194" y="1270"/>
                </a:cubicBezTo>
                <a:cubicBezTo>
                  <a:pt x="1186" y="1293"/>
                  <a:pt x="1058" y="1331"/>
                  <a:pt x="1058" y="1361"/>
                </a:cubicBezTo>
                <a:cubicBezTo>
                  <a:pt x="1058" y="1391"/>
                  <a:pt x="1209" y="1437"/>
                  <a:pt x="1194" y="1452"/>
                </a:cubicBezTo>
                <a:cubicBezTo>
                  <a:pt x="1179" y="1467"/>
                  <a:pt x="1028" y="1452"/>
                  <a:pt x="968" y="1452"/>
                </a:cubicBezTo>
                <a:cubicBezTo>
                  <a:pt x="908" y="1452"/>
                  <a:pt x="892" y="1452"/>
                  <a:pt x="832" y="1452"/>
                </a:cubicBezTo>
                <a:cubicBezTo>
                  <a:pt x="772" y="1452"/>
                  <a:pt x="665" y="1452"/>
                  <a:pt x="605" y="1452"/>
                </a:cubicBezTo>
                <a:cubicBezTo>
                  <a:pt x="545" y="1452"/>
                  <a:pt x="499" y="1467"/>
                  <a:pt x="469" y="1452"/>
                </a:cubicBezTo>
                <a:cubicBezTo>
                  <a:pt x="439" y="1437"/>
                  <a:pt x="453" y="1391"/>
                  <a:pt x="423" y="1361"/>
                </a:cubicBezTo>
                <a:cubicBezTo>
                  <a:pt x="393" y="1331"/>
                  <a:pt x="340" y="1315"/>
                  <a:pt x="287" y="1270"/>
                </a:cubicBezTo>
                <a:cubicBezTo>
                  <a:pt x="234" y="1225"/>
                  <a:pt x="151" y="1134"/>
                  <a:pt x="106" y="1089"/>
                </a:cubicBezTo>
                <a:cubicBezTo>
                  <a:pt x="61" y="1044"/>
                  <a:pt x="30" y="1036"/>
                  <a:pt x="15" y="998"/>
                </a:cubicBezTo>
                <a:cubicBezTo>
                  <a:pt x="0" y="960"/>
                  <a:pt x="8" y="892"/>
                  <a:pt x="15" y="862"/>
                </a:cubicBezTo>
                <a:cubicBezTo>
                  <a:pt x="22" y="832"/>
                  <a:pt x="30" y="824"/>
                  <a:pt x="60" y="817"/>
                </a:cubicBezTo>
                <a:cubicBezTo>
                  <a:pt x="90" y="810"/>
                  <a:pt x="167" y="832"/>
                  <a:pt x="197" y="817"/>
                </a:cubicBezTo>
                <a:cubicBezTo>
                  <a:pt x="227" y="802"/>
                  <a:pt x="227" y="756"/>
                  <a:pt x="242" y="726"/>
                </a:cubicBezTo>
                <a:cubicBezTo>
                  <a:pt x="257" y="696"/>
                  <a:pt x="272" y="665"/>
                  <a:pt x="287" y="635"/>
                </a:cubicBezTo>
                <a:cubicBezTo>
                  <a:pt x="302" y="605"/>
                  <a:pt x="318" y="568"/>
                  <a:pt x="333" y="545"/>
                </a:cubicBezTo>
                <a:cubicBezTo>
                  <a:pt x="348" y="522"/>
                  <a:pt x="378" y="514"/>
                  <a:pt x="378" y="499"/>
                </a:cubicBezTo>
                <a:cubicBezTo>
                  <a:pt x="378" y="484"/>
                  <a:pt x="340" y="484"/>
                  <a:pt x="333" y="454"/>
                </a:cubicBezTo>
                <a:cubicBezTo>
                  <a:pt x="326" y="424"/>
                  <a:pt x="348" y="363"/>
                  <a:pt x="333" y="318"/>
                </a:cubicBezTo>
                <a:cubicBezTo>
                  <a:pt x="318" y="273"/>
                  <a:pt x="257" y="227"/>
                  <a:pt x="242" y="182"/>
                </a:cubicBezTo>
                <a:cubicBezTo>
                  <a:pt x="227" y="137"/>
                  <a:pt x="227" y="69"/>
                  <a:pt x="242" y="46"/>
                </a:cubicBezTo>
                <a:cubicBezTo>
                  <a:pt x="257" y="23"/>
                  <a:pt x="310" y="54"/>
                  <a:pt x="333" y="46"/>
                </a:cubicBezTo>
                <a:cubicBezTo>
                  <a:pt x="356" y="38"/>
                  <a:pt x="348" y="0"/>
                  <a:pt x="378" y="0"/>
                </a:cubicBezTo>
                <a:close/>
              </a:path>
            </a:pathLst>
          </a:custGeom>
          <a:noFill/>
          <a:ln w="572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3"/>
          <p:cNvSpPr/>
          <p:nvPr/>
        </p:nvSpPr>
        <p:spPr>
          <a:xfrm>
            <a:off x="600120" y="2924280"/>
            <a:ext cx="1606680" cy="152388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1012" h="960">
                <a:moveTo>
                  <a:pt x="189" y="915"/>
                </a:moveTo>
                <a:cubicBezTo>
                  <a:pt x="189" y="900"/>
                  <a:pt x="219" y="884"/>
                  <a:pt x="234" y="869"/>
                </a:cubicBezTo>
                <a:cubicBezTo>
                  <a:pt x="249" y="854"/>
                  <a:pt x="272" y="847"/>
                  <a:pt x="279" y="824"/>
                </a:cubicBezTo>
                <a:cubicBezTo>
                  <a:pt x="286" y="801"/>
                  <a:pt x="271" y="756"/>
                  <a:pt x="279" y="733"/>
                </a:cubicBezTo>
                <a:cubicBezTo>
                  <a:pt x="287" y="710"/>
                  <a:pt x="317" y="711"/>
                  <a:pt x="325" y="688"/>
                </a:cubicBezTo>
                <a:cubicBezTo>
                  <a:pt x="333" y="665"/>
                  <a:pt x="325" y="627"/>
                  <a:pt x="325" y="597"/>
                </a:cubicBezTo>
                <a:cubicBezTo>
                  <a:pt x="325" y="567"/>
                  <a:pt x="340" y="536"/>
                  <a:pt x="325" y="506"/>
                </a:cubicBezTo>
                <a:cubicBezTo>
                  <a:pt x="310" y="476"/>
                  <a:pt x="257" y="439"/>
                  <a:pt x="234" y="416"/>
                </a:cubicBezTo>
                <a:cubicBezTo>
                  <a:pt x="211" y="393"/>
                  <a:pt x="204" y="378"/>
                  <a:pt x="189" y="370"/>
                </a:cubicBezTo>
                <a:cubicBezTo>
                  <a:pt x="174" y="362"/>
                  <a:pt x="158" y="385"/>
                  <a:pt x="143" y="370"/>
                </a:cubicBezTo>
                <a:cubicBezTo>
                  <a:pt x="128" y="355"/>
                  <a:pt x="105" y="303"/>
                  <a:pt x="98" y="280"/>
                </a:cubicBezTo>
                <a:cubicBezTo>
                  <a:pt x="91" y="257"/>
                  <a:pt x="105" y="257"/>
                  <a:pt x="98" y="234"/>
                </a:cubicBezTo>
                <a:cubicBezTo>
                  <a:pt x="91" y="211"/>
                  <a:pt x="68" y="167"/>
                  <a:pt x="53" y="144"/>
                </a:cubicBezTo>
                <a:cubicBezTo>
                  <a:pt x="38" y="121"/>
                  <a:pt x="0" y="106"/>
                  <a:pt x="7" y="98"/>
                </a:cubicBezTo>
                <a:cubicBezTo>
                  <a:pt x="14" y="90"/>
                  <a:pt x="68" y="105"/>
                  <a:pt x="98" y="98"/>
                </a:cubicBezTo>
                <a:cubicBezTo>
                  <a:pt x="128" y="91"/>
                  <a:pt x="159" y="68"/>
                  <a:pt x="189" y="53"/>
                </a:cubicBezTo>
                <a:cubicBezTo>
                  <a:pt x="219" y="38"/>
                  <a:pt x="234" y="0"/>
                  <a:pt x="279" y="7"/>
                </a:cubicBezTo>
                <a:cubicBezTo>
                  <a:pt x="324" y="14"/>
                  <a:pt x="408" y="75"/>
                  <a:pt x="461" y="98"/>
                </a:cubicBezTo>
                <a:cubicBezTo>
                  <a:pt x="514" y="121"/>
                  <a:pt x="559" y="129"/>
                  <a:pt x="597" y="144"/>
                </a:cubicBezTo>
                <a:cubicBezTo>
                  <a:pt x="635" y="159"/>
                  <a:pt x="658" y="189"/>
                  <a:pt x="688" y="189"/>
                </a:cubicBezTo>
                <a:cubicBezTo>
                  <a:pt x="718" y="189"/>
                  <a:pt x="748" y="144"/>
                  <a:pt x="778" y="144"/>
                </a:cubicBezTo>
                <a:cubicBezTo>
                  <a:pt x="808" y="144"/>
                  <a:pt x="831" y="151"/>
                  <a:pt x="869" y="189"/>
                </a:cubicBezTo>
                <a:cubicBezTo>
                  <a:pt x="907" y="227"/>
                  <a:pt x="998" y="309"/>
                  <a:pt x="1005" y="370"/>
                </a:cubicBezTo>
                <a:cubicBezTo>
                  <a:pt x="1012" y="431"/>
                  <a:pt x="937" y="507"/>
                  <a:pt x="914" y="552"/>
                </a:cubicBezTo>
                <a:cubicBezTo>
                  <a:pt x="891" y="597"/>
                  <a:pt x="884" y="613"/>
                  <a:pt x="869" y="643"/>
                </a:cubicBezTo>
                <a:cubicBezTo>
                  <a:pt x="854" y="673"/>
                  <a:pt x="862" y="703"/>
                  <a:pt x="824" y="733"/>
                </a:cubicBezTo>
                <a:cubicBezTo>
                  <a:pt x="786" y="763"/>
                  <a:pt x="687" y="801"/>
                  <a:pt x="642" y="824"/>
                </a:cubicBezTo>
                <a:cubicBezTo>
                  <a:pt x="597" y="847"/>
                  <a:pt x="590" y="869"/>
                  <a:pt x="552" y="869"/>
                </a:cubicBezTo>
                <a:cubicBezTo>
                  <a:pt x="514" y="869"/>
                  <a:pt x="453" y="824"/>
                  <a:pt x="415" y="824"/>
                </a:cubicBezTo>
                <a:cubicBezTo>
                  <a:pt x="377" y="824"/>
                  <a:pt x="348" y="854"/>
                  <a:pt x="325" y="869"/>
                </a:cubicBezTo>
                <a:cubicBezTo>
                  <a:pt x="302" y="884"/>
                  <a:pt x="294" y="900"/>
                  <a:pt x="279" y="915"/>
                </a:cubicBezTo>
                <a:cubicBezTo>
                  <a:pt x="264" y="930"/>
                  <a:pt x="249" y="960"/>
                  <a:pt x="234" y="960"/>
                </a:cubicBezTo>
                <a:cubicBezTo>
                  <a:pt x="219" y="960"/>
                  <a:pt x="189" y="930"/>
                  <a:pt x="189" y="915"/>
                </a:cubicBezTo>
                <a:close/>
              </a:path>
            </a:pathLst>
          </a:cu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4788000" y="3556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Arial"/>
              </a:rPr>
              <a:t>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6"/>
          <p:cNvSpPr/>
          <p:nvPr/>
        </p:nvSpPr>
        <p:spPr>
          <a:xfrm>
            <a:off x="5076720" y="3573360"/>
            <a:ext cx="71640" cy="73080"/>
          </a:xfrm>
          <a:prstGeom prst="ellipse">
            <a:avLst/>
          </a:prstGeom>
          <a:solidFill>
            <a:srgbClr val="990000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5362560" y="5357880"/>
            <a:ext cx="367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княжества, города Руси имели шанс возглавить объединени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уйте сво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1547640" y="1336680"/>
            <a:ext cx="741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Удобство географического 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добное расположение на торговых пу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олго-Окское междуречь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лодородные земли и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очувствие духовенства, выраженное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не пребывания митропо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олитика татар, которая не мог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евременно заметить опас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иление Московского княж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Поддержка бояр и сочувствие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Личные способности первых московских кня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476360" y="131760"/>
            <a:ext cx="6983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Причины возвышения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Пиши"/>
          <p:cNvPicPr/>
          <p:nvPr/>
        </p:nvPicPr>
        <p:blipFill>
          <a:blip r:embed="rId2"/>
          <a:stretch/>
        </p:blipFill>
        <p:spPr>
          <a:xfrm>
            <a:off x="47520" y="63360"/>
            <a:ext cx="14288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4"/>
          <p:cNvSpPr/>
          <p:nvPr/>
        </p:nvSpPr>
        <p:spPr>
          <a:xfrm>
            <a:off x="4572000" y="2997360"/>
            <a:ext cx="144360" cy="14436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788000" y="3556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Arial"/>
              </a:rPr>
              <a:t>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076720" y="3573360"/>
            <a:ext cx="71640" cy="73080"/>
          </a:xfrm>
          <a:prstGeom prst="ellipse">
            <a:avLst/>
          </a:prstGeom>
          <a:solidFill>
            <a:srgbClr val="990000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356000" y="30528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Arial"/>
              </a:rPr>
              <a:t>Тве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8:58:14Z</dcterms:created>
  <dc:creator>Быкова</dc:creator>
  <dc:description/>
  <dc:language>en-US</dc:language>
  <cp:lastModifiedBy>941</cp:lastModifiedBy>
  <dcterms:modified xsi:type="dcterms:W3CDTF">2021-05-14T21:02:26Z</dcterms:modified>
  <cp:revision>101</cp:revision>
  <dc:subject/>
  <dc:title>Слайд 1</dc:title>
</cp:coreProperties>
</file>